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330-D1DF-42B1-8E6F-E334C941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AC7-F127-4230-88CA-71851F28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2AB-D157-4F3E-84F9-1AB91E04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CFB-FFBB-428A-96B6-E8354BC0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13D-0926-4EA5-9972-25DBC0A9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DB3C-D613-4E2E-8BD9-F1CBB2B9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19F-E753-432E-85C0-C9AEAB6C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334B-51F8-40E5-BA5A-49B47ADE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FFB-B534-4576-B9D3-C43A9CF7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050-DF4A-4B82-A864-9FC4FFC5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4D6-3CBE-4C88-A240-7456DD8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01B-039A-4D52-AB7E-98296FF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A96E-F2D1-4195-865B-5A3ADC8CB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53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tencil"/>
              </a:rPr>
              <a:t>Destruction on the horiz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dy"/>
              </a:rPr>
              <a:t>By: Candace Faircl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dy"/>
              </a:rPr>
              <a:t>Music; Adagio For Strings (Platoon) by London Festival Orches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990720"/>
            <a:ext cx="853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762120"/>
            <a:ext cx="807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562720" y="121932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Sirens approach from the distance and lights swing like haloes cutting like daggers through black 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41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2193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pyrus"/>
              </a:rPr>
              <a:t>Smoke and ash clung to my esophag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828800"/>
            <a:ext cx="342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desperately awaiting its turn to circulate my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311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952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 steadied myself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09680" y="54100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hip pumm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5791320"/>
            <a:ext cx="2133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andy sh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2286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is was never my idea of a vacation. I’m sure the bodies coasting on wavelengths would have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6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81080" y="380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y last prayer as my boots sunk deep into the sand w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691080" cy="4953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43000" y="579132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Papyrus"/>
              </a:rPr>
              <a:t>"bring me back to Ruth.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6668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4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Salty 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304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ghos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304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over my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914400"/>
            <a:ext cx="792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Papyrus"/>
              </a:rPr>
              <a:t>as the ship barreled through   too calm se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01520" y="143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143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Standing on deck, I watched clouds of smoke build   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Papyrus"/>
              </a:rPr>
              <a:t>skyscraper silhouettes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over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286000"/>
            <a:ext cx="50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desolate islan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62120"/>
            <a:ext cx="4572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pyrus"/>
              </a:rPr>
              <a:t>The “birdies” with their bombs shattered our precious Pearl</a:t>
            </a:r>
            <a:r>
              <a:rPr b="1" lang="en-US" sz="4000" spc="-1" strike="noStrike">
                <a:solidFill>
                  <a:srgbClr val="ffffff"/>
                </a:solidFill>
                <a:latin typeface="Papyru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0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30492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The air came in waves of       sickness and despai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75248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trapping all that sto</a:t>
            </a:r>
            <a:r>
              <a:rPr b="0" lang="en-US" sz="4000" spc="-1" strike="noStrike">
                <a:solidFill>
                  <a:srgbClr val="333333"/>
                </a:solidFill>
                <a:latin typeface="Papyrus"/>
              </a:rPr>
              <a:t>o</a:t>
            </a:r>
            <a:r>
              <a:rPr b="0" lang="en-US" sz="4000" spc="-1" strike="noStrike">
                <a:solidFill>
                  <a:srgbClr val="5f5f5f"/>
                </a:solidFill>
                <a:latin typeface="Papyrus"/>
              </a:rPr>
              <a:t>d 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in its path 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9718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forev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7607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9072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atmosphere reeked of smoldering flesh from the victims of white-hot chaos engulfing the </a:t>
            </a:r>
            <a:r>
              <a:rPr b="0" i="1" lang="en-US" sz="3200" spc="-1" strike="noStrike">
                <a:solidFill>
                  <a:srgbClr val="ffffff"/>
                </a:solidFill>
                <a:latin typeface="Papyrus"/>
              </a:rPr>
              <a:t>unsuspecting</a:t>
            </a: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 is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32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57200"/>
            <a:ext cx="85345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Phosphorescent catastrophe saluted the Arizona, swall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Papyrus"/>
              </a:rPr>
              <a:t>10,000 leagues bel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09680" y="838080"/>
            <a:ext cx="67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e scene was sepulchral in its self. Voices of the fallen were lifted on sound waves and played their somber  tunes on our eardru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685800" y="0"/>
            <a:ext cx="12420720" cy="7162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2819160"/>
            <a:ext cx="57150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Darkness cascaded around our vessel, signaling our destination and depar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1:19:44Z</dcterms:created>
  <dc:creator>Candace</dc:creator>
  <dc:description/>
  <dc:language>en-US</dc:language>
  <cp:lastModifiedBy>Candace</cp:lastModifiedBy>
  <dcterms:modified xsi:type="dcterms:W3CDTF">2008-02-29T11:51:53Z</dcterms:modified>
  <cp:revision>8</cp:revision>
  <dc:subject/>
  <dc:title>“Electric     Boy”</dc:title>
</cp:coreProperties>
</file>